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572F-6008-41D7-A3F1-BF8CC2AA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3FE-D766-4B6A-B0A3-FE486782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97E7-89F1-4A80-869F-C96D73FB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D74-6FF0-4D30-9105-81C170F8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466-6E87-48ED-BFF0-3D7A4F1F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D0C-D356-4731-A6C6-43821753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E17-B6A3-4C01-9F17-51025474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D82-C36E-4441-AD9D-4C0FB56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D4F-903C-4AE0-8DF9-773458F3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DDEB-674B-4DB3-8F61-AB9A66D2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95D-E802-401A-8C60-B81C3BF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2BA8-CC0D-4415-AA84-23A5CAFF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0B1A-3332-4108-893E-B419957FA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A Trip to the Firehou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017000" indent="-10170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-10170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-10170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-10170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0">
              <a:spcBef>
                <a:spcPts val="17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1017000" indent="0">
              <a:spcBef>
                <a:spcPts val="17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h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n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ra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the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r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p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s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43040" y="-360"/>
            <a:ext cx="4800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gre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sn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subw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3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l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ra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ma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n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b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3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path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wai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exclai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rainstor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1920" y="151920"/>
            <a:ext cx="4343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rais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conta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path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91120" y="151920"/>
            <a:ext cx="4952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2. mailma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3. prais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4. playpen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5. qu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cp:lastPrinted>2008-12-05T12:03:03Z</cp:lastPrinted>
  <dcterms:modified xsi:type="dcterms:W3CDTF">2008-12-15T12:27:26Z</dcterms:modified>
  <cp:revision>6</cp:revision>
  <dc:subject/>
  <dc:title>The Art Lesson Group A</dc:title>
</cp:coreProperties>
</file>